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82F5-7C96-4711-A6EF-D86419A7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9ABE-0F2D-4B74-988B-5BF034A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930D-4170-4876-B589-89E511EE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BB59-2A14-417B-BDF6-06E868FF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AE8A-3BEB-4609-ACEA-5A4C51FC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829-2BB2-4642-9B97-31025C92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644C-5999-46DB-8A03-689A2E7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684-2396-4D39-9F71-0D8A012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65A-54E6-48A9-864F-FF21860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24B5-1633-431A-89D2-0564C341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0C46-1EAB-44BA-B190-297EE20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0327-9578-4DE7-8868-1DFAA68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E9CB-0802-4861-AF97-281E8B7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450E-46C4-4832-82BF-8746D0C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15F-9141-4DF4-811C-876906C8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8B0F-F028-4C76-9EF3-A28D4428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7CB-5F10-416B-9735-FF597B63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AE0F-7015-4A33-A529-6752E14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EA34-C50C-4479-9FF0-B3D30E57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6038-A0B5-4F82-8659-1173DED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4837-3C61-45F6-AB58-3C38C2E2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179A-E032-4299-BA7C-126841A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15D6-1E84-4F87-B923-439CD4FB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87EA-44F8-49EF-AEAA-DCDDF55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F68-008C-4487-90CF-00F45BFD3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474-3B5E-4904-B696-3A14813A3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Arial"/>
              </a:rPr>
              <a:t>Развој медицине и стоматологије на тлу Србиј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Српска апокриф</a:t>
            </a: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н</a:t>
            </a: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а верска медиц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Код нас ј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покрифн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медицина за лечење користила молитве, гатања и магијске формул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 старом и средњем веку било је веома раширено схватање да болести настају деловањем злих духова – демон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а се болест може излечити помоћу добрих духова који су наклоњени човеку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Оздрављење се објашњавало борбом изм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 добра и зла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 средњем веку Срби су се по начину живота и верским схватањима, доста одвојили од Грка и у неким појмовима су били ближи Западу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Апокрифна верска медицина у Србији се могла несметано развијати, јер није постојала српска црква. Зато је у српске црквене књиге ушао и велики број апокрифних списа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Формирањем српске цркве Свети Сава је, као свој приоритетни задатак, поставио избацивање тих апокрифних списа из црквених књиг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Званична српска црква је била против апокрифних магија и магијских формула и веровања у зле духове, вампире и вештице и да они изазивају епидемије, глад и друг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дске несреће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Апокрифне молитве у циљу лечења биле су најчешче фантастичног садржаја, тако да често уопште нису личиле на молитве. Молитве за лечење налазе се и у српским средњовековним терапијским зборницима - Ходошки и Дечански. Српске апокрифне молитве су већином преведене из грчких зборника.Тако се најстарија позната српска молитва за лечење налази у Ходошком терапијском зборнику.То је молитва за лечење од уједа змија, која је преведена са грчког језик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66"/>
                </a:solidFill>
                <a:latin typeface="Arial"/>
              </a:rPr>
              <a:t>Цар Душан је својим законом забранио апокрифна веровања и прописао строге казне.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Тако је у члану 20. Душановог законика предвиђено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"да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ди који са враџбинама узимају лешеве из гроба и спаљују, село које то чини нека плати враџбу, а ако буде поп на то дошао, да му се узме попство"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Ово је уједно и први српски законски пропис о сузбијању надрилекарства</a:t>
            </a:r>
            <a:r>
              <a:rPr b="0" lang="sr-CS" sz="26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Овај пропис показује да се у Србији још у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IV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еку настојало да се искорени веровање у вампире и вештице, док су у то време на Западу, све до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ека, спаљивани живи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ди који су проглашавани за вампире, вешце и вештице и то уз благослов цркв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Међутим, ни овако строги Душанови законски прописи нису у потпуности искоренили ово веровање, јер је имало дубок корен у народу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корењено је и веровање да болести могу настајати и под утицајем неких космичких појава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стојало је веровање да је унапред предодр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ено у које дане у појединим месецима ће се човеку дог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ати зло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Тако у српском "Требнику" из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ека стоји: "Ако у јуну буде грмљавине, биће великих богиња и велике смртности од њих; ако у августу буде грмљавине биће глади и умирања, али не много". Слична прорицања налазе се и у "Громовнику" из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ек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Код Срба је постојало и веровање да је унапред предодређено у које дане у појединим месецима ће с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дима догодити зло. Сваки месец има по два лоша дана и то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јануар 2. и 27.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фебруар 7. и 29.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Српска канонска верска медиц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четко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Срби су почели примати хришћанство и већ краје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X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били су хришћански наро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пска канонска верска медицина је заснована на догматском учењу хришћанске цркве. По том учењу оснивач хришћанства Исус Христос је лечио болеснике и васкрсавао мртвац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у моћ је пренео и на своје ученике - апостоле, од којих је свети Лука био и лекар. У канонској верској медицини биле су раширене легенде о безбројним светим хришћанским лекарима, као што с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узман и Дамја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заштитници болесника, који су лечили бесплатно, затим свети Пантелејмон и друг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5332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586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taro Nagoričino: Sv. Kuzman, Damjan i Pantelejmon (1318 г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са медицинским атрибутим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Српска канонска верска медиц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Српска канонска верска медицина је створена по угледу на византијску, али је српски народ у њу уградио и нешто своје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66"/>
                </a:solidFill>
                <a:latin typeface="Arial"/>
              </a:rPr>
              <a:t>Тако је у српској канонској верској медицини значајно место заузимало веровање у исцелитељску моћ моштију светац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Црквена верска медицина почела је нарочито да се упражњава у Србији после смрти Стевана Немање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Српска канонска верска медиц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целитељској моћи моштију српских светаца у то време је придаван већи значај него лече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тадашњи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фицејалних лека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чење је било обредно и обично се састојало у читању молитви за оздрављење или је пак било довољно да болесник само 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 на гроб неког свеца па да оздрав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Српска световна медиц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Настанак и развој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рочито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интезивно развија после оснивања наших манастирских болница у чему су посебну улогу одиграли манастири Хиландар и Студеница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Поред Византије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ff0066"/>
                </a:solidFill>
                <a:latin typeface="Arial"/>
              </a:rPr>
              <a:t>на развој српске средњовековне медицине значајног утицаја је имала и западна медицина,</a:t>
            </a:r>
            <a:r>
              <a:rPr b="0" lang="en-US" sz="25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ff0066"/>
                </a:solidFill>
                <a:latin typeface="Arial"/>
              </a:rPr>
              <a:t>нарочито Италије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Том утицају су допринели и лекари пореклом из Италије, који су живели и радили у Србији, а студије су завршили на италијанским  универзитетима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5e5ff"/>
                </a:solidFill>
                <a:latin typeface="Arial"/>
              </a:rPr>
              <a:t>Српска световна медиц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Највећи допринос развоју наше средњовековне медицине имао је св. Сава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 оснивач првих српских болница, писац најстаријих наших медицинских списа (прописи о уређењу манастирских болница), борац против надрилекар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де помињемо и питање наших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</a:rPr>
              <a:t>лекаруша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Током времена народно емпир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ј</a:t>
            </a: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ско лечење сабрано је у тзв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 лекаруша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екаруше су прописи лекова и упустава како се дају код појединих болести као и њиховом справљањ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Социоекономске/здравствене прилике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њовековна Србија је била ст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чарско ратарска земљ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еоска насеља су била разбацаног типа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кућама од дрвета и камен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 средини куће било је огњиште где је непрекидно горела ватр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 је било земљано и дрве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павало се на земљ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 слами,а као покривач коришћени су гуњеви и кожус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Српска световна медиц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некад у њима има и упустава за лечење стоке, савета из пољопривреде, шумарства, пчеларства и виноградарств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 лекова против љубоморе, чари и урок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српским зборницама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једино не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рецепата за трајне мане и неуропсихијатриске боле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Српска световна медиц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ва знања из анатомије, по Хипократовом и Галеновом учењ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рпска медицина је добила из рукописа „Шестоднев Јована Егзарха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ји је на молбу српског књижевника Доментијана, преписао 126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 Хиландару познати биограф Теодор Грамати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касније монах Теодосије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5e5ff"/>
                </a:solidFill>
                <a:latin typeface="Arial"/>
              </a:rPr>
              <a:t>Ходошки зборни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рпски средњовековни терапијски кодекси нису били зборници народне, етномедицине, већ списи настали под утицајем европске научне медицин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66"/>
                </a:solidFill>
                <a:latin typeface="Arial"/>
              </a:rPr>
              <a:t>Ходошки зборник спада међу најстарије познате медицинске кодексе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тиче из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IV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XV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ека, а данас се чува у Прашком музеју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адржи углавном само р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епте за лечење а мање има о симптоматологији и дијагностици болести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Овај  зборник има три дела: физиолошки, тераписки и астролошки. После Ходашког зборника, наш најстарији медицински кодекс ј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66"/>
                </a:solidFill>
                <a:latin typeface="Arial"/>
              </a:rPr>
              <a:t>Хиландарска „Ијатрософија о всакој вешт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“, који потиче из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 века, а писао га је неки Григориј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5e5ff"/>
                </a:solidFill>
                <a:latin typeface="Arial"/>
              </a:rPr>
              <a:t>Хиландарски медицински кодекс је најдрагоценији споменик српске медицинске култу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з XV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XVI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ве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адржи преводе најзначајнијих списа салернске и монпељеске школе, тј. европске научне медицине оног времен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адржи више медицинских списа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  познавању болести по пипању пулс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фармаколош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вакодневни огњица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 малариј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 заразним болести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 дијагнози обољења на основу промене боје мокраћ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оксиколошки спис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физиологија лучења слузавих супстанци код разних патолошких процес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ерапијски компендију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Дечански врачевник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чански врачебник је изгубљен. Остао је само његов садржај, који је залепљен 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рици рукописа србуљ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„Беседе Јована Златоустог", која се данас чува у библиотеци манастира Дечана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рап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ки зборни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мао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ва дел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ви је садржавао рецепте народне емпир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ке медици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а други само молитв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5e5ff"/>
                </a:solidFill>
                <a:latin typeface="Arial"/>
              </a:rPr>
              <a:t>Глигоровићев кодекс потиче из </a:t>
            </a:r>
            <a:r>
              <a:rPr b="1" lang="sr-Latn-CS" sz="3600" spc="-1" strike="noStrike">
                <a:solidFill>
                  <a:srgbClr val="e5e5ff"/>
                </a:solidFill>
                <a:latin typeface="Arial"/>
              </a:rPr>
              <a:t>XVII </a:t>
            </a:r>
            <a:r>
              <a:rPr b="1" lang="sr-CS" sz="3600" spc="-1" strike="noStrike">
                <a:solidFill>
                  <a:srgbClr val="e5e5ff"/>
                </a:solidFill>
                <a:latin typeface="Arial"/>
              </a:rPr>
              <a:t>ве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 садржају је сличан Ходошком зборни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вом кодексу први пут се спомињу обољења полних органа, као и лек за лечење бубона код куг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рачебни типик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призренски зборник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ј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је рукопис краје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XIX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послао руски конзул из Призрена Јастребов. Потиче из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и више је физиолошки или тераписки зборни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њему се налазе хигијенски списи, углавном хигијене исхра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осански кодек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је вероватно настао 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у. У њему се помиње сифилис и ветеринарске боле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Јестаствослов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отиче из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и најважнији је спис из физиологије и чува се у универзитетској библиотеци у Београд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Номоканон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(крмчија)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С</a:t>
            </a: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в.Сав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 најкомплетније дело правне књижевности код Словена (1219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Садржи поглавље о хигијени подизања зграда и станова и прописе о социјалној зашти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То је превод византи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ј</a:t>
            </a: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ског законодав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Unicode MS"/>
              </a:rPr>
              <a:t>Законик цара Душана садржи пропис о пијацама и врачарама који спаљују тела мртв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Средњовековне фреск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едњовековне фреске у српским манастирима садрже и разне мотиве из медицине из којих се м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 сазнати о тадашњим обичајима, здравственим приликама, хигијенским приликама, исхра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чешћи мотиви на фрескама су прикази чудних излечења, сцене из живота светаца, неге породиље и дете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ћу се и разни  медицински инструменти и помоћна средства која су користили болесниц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штаке и слич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ред тога значајни су и прикази појединих болести – губ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епила, парализе, луди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Превентивна медиц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гијенске прилике у средњевековној Србији биле су на веома ниском ниво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знања о превентивној медицини тога доба црпимо из разних медицинских списа, которског статута и которског архива. У которском статуту постоји више одредаба о комуналној хигијени - изградња кућа, чистоћа улица и друге, као и контрола животних намирница - месо, риба и друг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сазнања из хигијене као нау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Србију су допрла врло рано, са преводима и преписивањем визан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ких црквених књига, у којима је указивано и на хигијенска схватања античких лекара у животу и понашању, а и сами црквени писци су обрађивали неке хигијенске тем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старији списи из хигијене код нас су поглавља о исхрани у Хиландарском и Студеничк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пик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је је написао Св. Са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 хигијенској заштити радника говори се у српско рударском закону из 14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то се тиче патологије становништва највеће несреће људи у средњем веку биле су глад и заразне боле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вакво стање је било код имућнијих сељака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 остало становништво је живело далеко бедн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 алкохолних пића користили су пиво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ино и медовин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 писаним документима знатно чешће се помињу гладне године, него заразне болести , односно епидемиј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Најчешће епидемије су биле епидемије куге и лепре, колере и инфлуенце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Да би се избегло обољењ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саветовано је исељење из места где је заражен ваздух у шумовите предел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(што је само ширило епидемију) и више воћа, нарочити јабука и помора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џ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Затим је саветовано пуштање крви и приме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 клистира, у терапији тако и у профилакси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ред тога препоручивано је узимање пилула спремљених од дрога са ароматичним средствим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Карантин је у Котору примењен 1431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5e5ff"/>
                </a:solidFill>
                <a:latin typeface="Arial"/>
              </a:rPr>
              <a:t>СРПСКЕ СРЕДЊОВЕКОВНЕ БОЛНИЦ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66"/>
                </a:solidFill>
                <a:latin typeface="Arial"/>
              </a:rPr>
              <a:t>Српске средњевековне болнице су биле двојак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е су искључиво служиле за леч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Које су биле склоништа за сиромахе и неизлечиве хроничне болеснике као што су паралитичари, падавичари, лепрозни болесници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5e5ff"/>
                </a:solidFill>
                <a:latin typeface="Arial"/>
              </a:rPr>
              <a:t>СРПСКЕ СРЕДЊОВЕКОВНЕ БОЛНИЦ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Почетак увођења савремене европске медицине у Србији обележен је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оснивањем </a:t>
            </a:r>
            <a:r>
              <a:rPr b="0" lang="sr-CS" sz="3000" spc="-1" strike="noStrike">
                <a:solidFill>
                  <a:srgbClr val="ff0066"/>
                </a:solidFill>
                <a:latin typeface="Arial"/>
              </a:rPr>
              <a:t>првих српских болница у Хиландару и Студеници.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66"/>
                </a:solidFill>
                <a:latin typeface="Arial"/>
              </a:rPr>
              <a:t>Појава првих српских болница пада у</a:t>
            </a:r>
            <a:r>
              <a:rPr b="0" lang="sr-Latn-CS" sz="3000" spc="-1" strike="noStrike">
                <a:solidFill>
                  <a:srgbClr val="ff0066"/>
                </a:solidFill>
                <a:latin typeface="Arial"/>
              </a:rPr>
              <a:t> XII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век, када је српска средњовековна медицина започела свој успон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Старе српске болнице су се издржавале од средстава њихових оснивача. Угледајући се на византијске цареве, српски владари из династије Немањића, као и други, подизали су болнице поред својих задужбина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болеле у болницама су лечили лекари емпирици који су лекарску вештину изучили као занат радећи уз искусног лека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Лекари су били најчешће монаси који су различито називани: роботник, управник болнице и калуђер лека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Болнице у Хиландару основали су 1191. Стеван Немања и његов син Свети Сав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о је била прва српска болница, али ван територије Србије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Болница у Хиландару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очетку је имала само једну собу са 8 кревета, проширена је у доба краља Милутина, а у Душаново доба је имала шест соба са 12 постељ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з болницу је дозидана кухиња и капел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66"/>
                </a:solidFill>
                <a:latin typeface="Arial"/>
              </a:rPr>
              <a:t>Ова болница није имала лека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66"/>
                </a:solidFill>
                <a:latin typeface="Arial"/>
              </a:rPr>
              <a:t>Управник је био калуђер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кога је бирало манастирско братств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Болница у манастиру Студениц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Болница у манастиру Студеница је основана 1208. или 1209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То је прва српска болница на територији Србиј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208. Св. Сава је пренео  Немањине мошти  у Србију и од тада је Сава живео у манастиру Студеница као њен игум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оношењем Немањиних мошти студеница се почела сматрати чудотворном црквом у коју су доношени тешки болесници од разних болести јер се веровало у чудотворну моћ моштију Стевана Немањ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5e5ff"/>
                </a:solidFill>
                <a:latin typeface="Arial"/>
              </a:rPr>
              <a:t>Болнице краља Милутина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Краљ Милутин је подигао више задужбина него сви Немањићи заједн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У Цариграду на место званом П</a:t>
            </a:r>
            <a:r>
              <a:rPr b="0" i="1" lang="sr-Latn-CS" sz="2500" spc="-1" strike="noStrike">
                <a:solidFill>
                  <a:srgbClr val="ffffff"/>
                </a:solidFill>
                <a:latin typeface="Arial"/>
              </a:rPr>
              <a:t>родро</a:t>
            </a: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м сазидао цркву и болницу и обезбедио њено издржавање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У болници је поставио искусне лекаре и помоћно особље. У њој је у 14. и 15.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веку постојала и медицинска школа и имала је два поз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та професора: Јован Хортасман у 14. веку и Јован Аргиропул у првој половини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века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У овој болници се налазио и један старији препис Диоскоридове књиге </a:t>
            </a: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„De materia medica"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из 512. године.Ту књигу је 1406. године преповезао српски монах Натанаило, који је радио у болници као болничар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Де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ч</a:t>
            </a: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анска болница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Arial"/>
              </a:rPr>
              <a:t>Стефан Дечански је основао болницу при манастиру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0066"/>
                </a:solidFill>
                <a:latin typeface="Arial"/>
              </a:rPr>
              <a:t>ечани 1330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0" lang="sr-CS" sz="2400" spc="-1" strike="noStrike">
                <a:solidFill>
                  <a:srgbClr val="ff0066"/>
                </a:solidFill>
                <a:latin typeface="Arial"/>
              </a:rPr>
              <a:t>ајзначајнија српска средњовековна болниц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рој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о узору на болницу цариградског манастира Продромоса. Имала је и иста одељења нервно, хируршко, интерно и геријатријско. Једино није имала гинеколошко одељење за разлику од болнице манастира Продромос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њој с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лечен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ници који болују 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„свете болести" епилепсије, а вероватно и других нервних болести, тј. нервно одељењ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ни којима је лице био изједено и којима су прсти отпадали од чланака, међу којима су били и болесници од лепр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хируршко одељењ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ни који су били „савијени па услед тога нису били способни за рад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геријатријско одељење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ници који су патили од плућне боле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нетрно одељењ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Де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ч</a:t>
            </a: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анска болница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Дечанска болница је била болница у правом смислу речи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у којој се лечење обављало коришћењем лекова и под надзором лекара.То је била наша најчувенија болница и најдуже је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трајал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П</a:t>
            </a: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рестала је да постоји тек у другој половини </a:t>
            </a:r>
            <a:r>
              <a:rPr b="0" lang="sr-Latn-CS" sz="2000" spc="-1" strike="noStrike">
                <a:solidFill>
                  <a:srgbClr val="ff0066"/>
                </a:solidFill>
                <a:latin typeface="Arial"/>
              </a:rPr>
              <a:t>XIX</a:t>
            </a:r>
            <a:r>
              <a:rPr b="0" lang="sr-CS" sz="2000" spc="-1" strike="noStrike">
                <a:solidFill>
                  <a:srgbClr val="ff0066"/>
                </a:solidFill>
                <a:latin typeface="Arial"/>
              </a:rPr>
              <a:t> века. Међутим, као и манастир, и болница је имала прекиде у ра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5e5ff"/>
                </a:solidFill>
                <a:latin typeface="Arial"/>
              </a:rPr>
              <a:t>Друге и мање познате манастирске болниц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ар Душан је при манастиру св. Арханге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Призрену подигао болницу 134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лница је имала 20 кревета и служила је само за лечење болесни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нез Лазар је 1381.у манастиру Лазарица подигао болниц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спот Стеван Лазаревић је у 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оград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зидао болницу почетк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ека уз београдску катедралу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старији писани документ о алкохолним пићима у Србији је једно писмо краља Владислава (12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2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) датог манастиру Бистрици у Полимљу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старом српском језику нема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ракија“ и „казан“.То су речи арапског порекл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e5ff"/>
                </a:solidFill>
                <a:latin typeface="Arial"/>
              </a:rPr>
              <a:t>Развој апот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 до 14. века апотеке су биле ретке у европи, па и у Србиј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кар је у исто време продавао и лекове, а поред лекара лекове су продавали и трговци, доносећи их из Дубровника и Кото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Развој стоматолог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пско средњвековно зубно лекарство, као и целокупна медицина, настало је под утицајем западне и византијске медицине. Упоредо са научном постојало је народно, верско и световно зубно лекарст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Arial"/>
              </a:rPr>
              <a:t>Најстарији писани документ о берберину-хирургу који се бавио и зубарством, налазимо у Которском архиву, потиче из 1332. године.То је </a:t>
            </a: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bio Mario de Antibario „medico cirurgico in Cataro"</a:t>
            </a:r>
            <a:r>
              <a:rPr b="0" lang="sr-CS" sz="24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је Котор у то време имао и градске зубне лекаре, потврђује и податак да, кад је Котор као независан град нудио Венецији да преузме протекторат (јер су се о њега отимали многи: Балшићи, Црнојевићи, Сандаљ Хранић), али под условом да стално држе по два лекара (физкуса и хируга), једног берберин-зубара и једног апотекара. Ово показује да је Котор имао навику да има ове стручња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Развој стоматолог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сто тако се срећу подаци о хирурзима-берберима-зубарима, поред Котора и у Будви, Херцег Новом, Перасту и Прчњу. Они су зубне услуге вршили у берберским радњама и нису напуштали берберски занат ради секундарног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„лекарског" звања, мада су њиме стицали друштвени углед. Њихов рад се називао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„ars barberia et chirurgica".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Први зубни лекари који се помињу у нашим писаним документима називају с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„medicus plagarum", „chirurgicus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", а често и само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„barberius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". Бербери су своје радње звали „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ega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" или „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o"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Развој стоматолог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старим писаним медицинским изворима средњовековни Срби 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мали и народно зубно лекарство. У лекарушама, у којима је сакупљено народно медицинско искуство, об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и су и стоматолошки пробеми. </a:t>
            </a: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Обољења уста и зуба третирана су и у средњовековним терапијским зборницим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Ходошком зборник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Хиландарском медицинском кодекс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Ијатрософији о всакој вешти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Глигоровићевом зборнику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Arial"/>
              </a:rPr>
              <a:t>Дечанском зборн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Развој стоматолог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0066"/>
                </a:solidFill>
                <a:latin typeface="Arial"/>
              </a:rPr>
              <a:t>Највећи и најзначајнији зборник старе српске медицинске културе је Хиландарски медицински кодекс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бр. 517. У његовом фармаколошком делу, у коме је дата целокупна стара српска фармакопеја, написана под утицајем западњачке фармације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века, налази се и поглавље о болестима зуба (лист 192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191880" indent="-1918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У Ходошком зборнику, који има три дела терапијски, физиолошки и астролошки, у терапијском делу пише о болестима уста и зуба и то у осам поглавља, која гласе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тзуба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Јегдат смрдет зуби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 јеже створити бјели зуби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 распучени уст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Јегда уста болит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Јегда отечет чловеку уста, језик и венди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Јегда смрдет уста,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426600" indent="-170640">
              <a:lnSpc>
                <a:spcPct val="8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Јегда болит зуб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Arial"/>
              </a:rPr>
              <a:t>Развој стоматолог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Поред ових, у овом зборнику наведени су и неки други рецепти за лечење уста и зуба. Рецепти из Ходошког зборника исти су као и рецепти из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Врачебног типика, а исти рецепти се налазе и у Ијатрософији хиландарској, што показује да су имали заједничко порекл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У Босанском зборнику се такође, дају савети и рецепти за оболеле зубе и зубобољ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У Дечанском зборнику у неким поглављима се третирају болести уста и зуба, и т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8040" indent="-207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 зубној болест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8040" indent="-207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Кад отекну уст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8040" indent="-207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Кад смрде уст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4.Српска модерна медиц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1. Организација здравствене зашти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адом средњовековне српске државе под турску власт замрзла је свака култура, па и медици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Народ је поново прибегао народној медицини и лекарима емпирицима међу којима су најпознатији били баба Станија, жандар Алекса, чича Димитрије и др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Школованих лекара није било у српским устанцима већ су санитетско збрињавање рањеника и болесника вршили народни видар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ако није било школованих лекара, санитетско збрињавање је обезбеђивано преко народних видара у позади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За време борби око Београда, 1806. устаници су имали две “амбуланције„- на Ташмајдану и на дну данашње Поп Лукине улиц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Најпознатији видари тог времена били су ћира Мана-госпа Мајка и њен син хећим Тома (Костић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Мада су се школовани лекари у Србији почели појављивати од 1819. организоване здравствене службе није бил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Није је могло бити без дозволе турске власти. Тек је Хатишерифом од 1830. то дозвољено, као и изградња болниц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0066"/>
                </a:solidFill>
                <a:latin typeface="Arial"/>
              </a:rPr>
              <a:t>Прва организација здравствене службе у кнежевини Србији установљена је 1839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ff"/>
                </a:solidFill>
                <a:latin typeface="Arial"/>
              </a:rPr>
              <a:t>Доношењем устава 1838. реформисана је државна управа тако што је кнежевина подељена на 17 округа уместо 4 војне области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ff"/>
                </a:solidFill>
                <a:latin typeface="Arial"/>
              </a:rPr>
              <a:t>Грађанска и војна санитетска служба ушле су у састав Министарства унутрашњих дела у коме је образовано Одељење карантинско са санитето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ff"/>
                </a:solidFill>
                <a:latin typeface="Arial"/>
              </a:rPr>
              <a:t>За начелника одељења за карантинске послове постављен је др </a:t>
            </a:r>
            <a:r>
              <a:rPr b="0" lang="sr-Latn-CS" sz="2700" spc="-1" strike="noStrike">
                <a:solidFill>
                  <a:srgbClr val="ff0066"/>
                </a:solidFill>
                <a:latin typeface="Arial"/>
              </a:rPr>
              <a:t>Карло Поцек, а за санитетске послове др Јован Стејић</a:t>
            </a:r>
            <a:r>
              <a:rPr b="0" lang="sr-Latn-CS" sz="2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ff"/>
                </a:solidFill>
                <a:latin typeface="Arial"/>
              </a:rPr>
              <a:t>Пацек је израдио Закон о установљењу окружних физикуса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Становништво је користило одело од сук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које је само ткало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Поред сук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народ је шио одела и од овчијих и јагњећих кожа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а испод одела носили су ланене кошуље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на глави шубару или вунену капу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У исхрани су се највише користили сир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млеко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суво месо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слани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али и рибе и дивља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Од поврћа нарочито се користило сочиво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купус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зеље и цвекл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Уместо шећера користио се мед, од којег се припремала и медовин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овоформирана здравствена служба почела је убрзано решавати бројне здравствене проблеме- сузбијање заразних болести код људи и стоке, увођење вакцинисања против великих богињ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ацек је израдио и први Закон о лекарским платама и хонорарим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1841. уведено је прво годишње прикупљање и сређивање санитетских статистичких податак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адом уставобранитељске владе 1859. извршена је нова реорганизација државне управе и грађанске и војне санитетске служб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863. Лицеј је претворен у Велику школу и у њој основана катедра за јавну хигијену и судску медицину коју је најпре водио др Аћим Медовић, затим др Милан Јовановић Морс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865. донет је Закон о болницама и апотекама и формиран болнички фонд који је алиментиран од годишњег пореза од 1,6 дин. по пореској глав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867. подигнута је болница на Палилули у Београду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66"/>
                </a:solidFill>
                <a:latin typeface="Arial"/>
              </a:rPr>
              <a:t>Залагањем др Владана Ђорђевића, основано је Српско лекарско друштво,1874. покренут часопис Српски архив, а 1876. основано Српско друштво црвеног кр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Према Линденмајеру, здравстве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служба у Србији крајем 1870. била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рганизована на следећи начи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кружни лекари у 17 округ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срески лекари у 21 срезу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пштински лекари у 12 вароши и два у Београду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кружне болнице у 13 округа на челу са окружним лекаром и једним помоћни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Душевна болница је отворена 1861. у Београду у „докторовој кули“, уређено је 5 бања, основано 14 апотека, установљени курсеви за спремање болничара из редова бербера, на Великој школи установљена катедра за јавну хигијену и судску медицин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Војносанитетска служба се развијала знатно брже од цивилне што су захтевали чести ратов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очи балканских ратова у мирнодопској војсци је било 32000 војника и официра и 54 војна лека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сле првог светског рата у целој Србији у животу и на раду је остало само 35 лека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 току рата страдало је 160 лекара - умрло 156 (124 од пегавца, 8 од трбушног тифуса, 3 од рекуренса,1 од срдобоље, 20 од незаразних болести), погинуло 3 лекара и један извршио самоубиство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Становништво је најчешће обољевало од заразних болести, а у структури узрока смрти прво место је држала туберкуло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Батут је писао да „Узроци због којих пропада наш народ нису толико у немаштини, колико у незнању и неумењу, у необавештености и предрасудама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...Народ треба поучавати и подучавати. За успешну борбу против болести, поред добро организоване здравствене службе и довољног броја стручног особља, потребно је добро обавештавање народа да би се по могућству и он сам бринуо о заштити и унапређењу свог здрављ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5e5ff"/>
                </a:solidFill>
                <a:latin typeface="Arial"/>
              </a:rPr>
              <a:t>Америчко друштво за заштиту српске деце дало је оцену стања код на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 мање од 12 % сељака користи медицинску службу зато што нема лекара у близини и што је лекарска помоћ скуп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чно се болесници остављају да сами оздраве уз припомоћ сеоских баба или да умр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ртност нарочито међу децом, је велика и према тврђењу самих сељака половина деце у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љак има гвоздени плуг и савремене справе за обраду земље; међутим спава на поду, ако му је дете болесно пита за савет бабе, спрема своју храну на отвореном огњишту, на прљавом поду своје колиб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Али у Србији се јавља велики полет за подизањем нових болница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моменту стварања Краљевине СХС, Србија је имала 41 болницу и Пастеров завод у Нишу. За кратко време Србија је имала 55 болница и 5174 постељ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ош већи замах је испољен у подизању социјално медицинских и хигијенско профилактичких устан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мах после рата реализована су и два давнашња циља, стварање министарства за здравље и отварање медицинског факултета у Београд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рига о сиромашним и немоћним била је изг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а на црквеним препорукама о љубави према ближњ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иромашнима је указивана помоћ тек после превода византијског законодав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“Номоканон“(крмчија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је да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.Са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 избора три прва професора: др Милан Јовановић Батут, др Војислав Суботић и др Ђорђе Јовановић, 1919. основан је Медицински факултет у Београду, који је почео са радом 19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почело се са изградњом и отварањем здравствених устано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За само 5 година отворено 250 социо-медицинских установ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Централни хигијенски завод у Београду, смештен у ново подигнутој згради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епидемиолошких завода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 бактериолошких станица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вод за тропске болести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вод за маларију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2 помоћне станице за маларију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3 здравствене станице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 амбуланти за венеричне болести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4 диспанзера за ТБЦ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4 установа за одојчад и малу децу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8 амбуланти за трахом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7 школских поликлиника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завода за социјалну медицину 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 других социјално медицинских установ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гледу здравственог осигурања 1921. је донета Уредба о осигурању радника, а 1922. Закон о осигурању радника који је био најнапреднији у Европ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рбији између два рата здравствени систем чинила су 4 подсистема: државни, приватни, социјалног осигурања и задр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ж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4.</a:t>
            </a:r>
            <a:r>
              <a:rPr b="0" lang="en-US" sz="4400" spc="-1" strike="noStrike">
                <a:solidFill>
                  <a:srgbClr val="e5e5ff"/>
                </a:solidFill>
                <a:latin typeface="Arial"/>
              </a:rPr>
              <a:t>2</a:t>
            </a:r>
            <a:r>
              <a:rPr b="0" lang="sr-CS" sz="4400" spc="-1" strike="noStrike">
                <a:solidFill>
                  <a:srgbClr val="e5e5ff"/>
                </a:solidFill>
                <a:latin typeface="Arial"/>
              </a:rPr>
              <a:t> Развој болниц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 подручјима где је живео српски живаљ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 била су под влашћу Аустрије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лнице су отваране још у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в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д 173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уботи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1751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емун 176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р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 177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ремски Карловци 178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омбор 178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вазалној кнежевини Србији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е до Хатишерифа 1830. турске власти нису дозвољавале отварање болни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т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Милошев брат Јеврем Обреновић је 1826. у Шапцу отворио прву болниц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мештену у приватној кући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само две собе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ли са сталним лекар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Хатишери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у Србији су отворене болнице у 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ик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радишту и Свилајнц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18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) и Пожаревц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18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снивањем гарнизона 1836. осниване су и војне болнице у Крагујевцу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жаревцу и Београд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нивање болнице је најпре било везано за потребе војск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ојних гарнизона и војних шко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већа болница била је у Београду на Палилули са 100 кревета која је била понос режим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ловино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ка у Србији су основане и болнице за лечење сифилис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френге) и кожних и заразних боле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таква болница је отворена у Крушевцу 183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Крагујевцу је 1844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нована привремена болница за убоге болеснике од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нерических и других прилепчивих боле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одине 185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Србији је било 9 окружних опште г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нских болниц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ли их је народ зва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филитич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ва болница за душевне болести је основана у Београду 186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сле доношењ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“правила о устројству дома с ума сишавших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а болница смештена је на Врачару у једноспратној згради коју је 1824. саградио Вито Ромита и звали су ј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“докторова кула“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 закону из 1881. ова болница је добила назив Болница за душевне болести, а 1931. капацитет јој је проширен на шесто крев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сније су отворене и болнице у Ковину 1924. Топоници код Ниша 1927. и у Јаши Томићу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сле оснивања медицинциског факултета у склопу Опште државне болнице на Врачару, ур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ене су просторије за клинике и на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не институте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Данас је то највећи болнички комплекс у земљи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Године 1875. у Србији је било 11 цивилних болница, које су углавном биле слабо опремљене и смештене у неодговарајућим просторним условим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сл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светског рата завршена је изградња болнице у Пироту и Ужицу, а изм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у два светска рата изгр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ене су још неке болниц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(Крагујевац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192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Београд је добио нову болницу за заразне болест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192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),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болницу за грудне болест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193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),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нову градску болницу 1934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66"/>
                </a:solidFill>
                <a:latin typeface="Arial"/>
              </a:rPr>
              <a:t>Тако је од прве болнице у Шапцу 1826.го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., у Србији 1875.год. било 11 болница са више стотина постеља, 1920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од. 50 болница са око 6300 постеља, 1939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од. 76 болница са преко 10000 постеља, а 195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од. 96 болница са близу 20.000 постељ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5e5ff"/>
                </a:solidFill>
                <a:latin typeface="Arial"/>
              </a:rPr>
              <a:t>Српска верска медиц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Arial"/>
              </a:rPr>
              <a:t>У најстарија времена српска медицина, као и медицине других народа, има своје почетке у народној емпиријској медицини, која је заснована на природи, вери и магији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Arial"/>
              </a:rPr>
              <a:t>У старом и средњем веку, у највећој употреби била је верска медицина - молитве, гатања и врачањ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Arial"/>
              </a:rPr>
              <a:t>Верска медицина се може поделити на апокрифну и канонску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Канонска медицина</a:t>
            </a:r>
            <a:r>
              <a:rPr b="0" lang="sr-CS" sz="2700" spc="-1" strike="noStrike">
                <a:solidFill>
                  <a:srgbClr val="ffffff"/>
                </a:solidFill>
                <a:latin typeface="Arial"/>
              </a:rPr>
              <a:t> је заснована на учењу званичне цркве и имала је догматску основу, док </a:t>
            </a: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апокрифна</a:t>
            </a:r>
            <a:r>
              <a:rPr b="0" lang="sr-CS" sz="2700" spc="-1" strike="noStrike">
                <a:solidFill>
                  <a:srgbClr val="ffffff"/>
                </a:solidFill>
                <a:latin typeface="Arial"/>
              </a:rPr>
              <a:t> представља синтезу разних религиозних и филозофских система, који су постојали у српским крајевима у античко и старовизантијско доба. Српска црква није признавала апокрифну медицину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итања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Српска апокриф</a:t>
            </a: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н</a:t>
            </a: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а верска медиц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 досељавању на Балкан, наши преци су код староседелаца затекли, такође апокрифну верску медицину, у којој је преовлађивала мистика, магија и астрологиј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истика и магија су изг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е на принципима античке верске медицине и хришћанске филозофиј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астрологија на веровањима старих нар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рац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вилонац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ерсијанац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вреј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окоп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ише да су Стари Словени имали једног Бога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ветови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е су се молили и приносили жртве за оздрављењ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 врачање од стране свештен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Српска апокриф</a:t>
            </a: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н</a:t>
            </a:r>
            <a:r>
              <a:rPr b="0" lang="sr-CS" sz="3600" spc="-1" strike="noStrike">
                <a:solidFill>
                  <a:srgbClr val="e5e5ff"/>
                </a:solidFill>
                <a:latin typeface="Arial"/>
              </a:rPr>
              <a:t>а верска медиц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ксо Грамтик наводи да су Стари Словени прорицали помоћу белог коњ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ер су веровали да на њему јаше Светови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моћу белог коња прорицали су престанак епидемије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ход рат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ко преко положе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паља коњ пр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 левом ногом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ило је лош завршетак ра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рски обреди Старих Словена били су скоро сасвим потиснути под утицајем староседелачке верске медицине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ли су се неки елементи одржали и до данас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2:09:08Z</dcterms:created>
  <dc:creator>MEDF</dc:creator>
  <dc:description/>
  <dc:language>en-US</dc:language>
  <cp:lastModifiedBy>Mirjana Petrovic</cp:lastModifiedBy>
  <dcterms:modified xsi:type="dcterms:W3CDTF">2020-02-13T19:31:11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